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87D0-FA7E-41EA-B357-9D59C62E9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4275-1719-4C8C-9C74-E9ECE30B2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38B6-88A7-40AA-ACEE-80F03972E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B984-9895-496F-B35F-3DC9DA7A3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679BA-5DF7-44A0-8075-0C870FBCA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682B5-3795-4C83-9728-320A009CB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A6653-289E-4BD3-82FB-168C19F65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D9D5C-11BC-4EB3-9FAE-32E84F88F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38B80-4670-457E-A870-95C989F39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4D561-D1D9-4562-817A-58EC881B6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27C92-0992-4243-9011-263A9B23C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B3CF-C8CE-42CD-970C-D2C342DCE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AF584-B1CA-4E23-83EE-D54B042D5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C4657-85F1-46CD-B3B5-B630F8357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8FD20-8C76-4B27-8B42-222C5CFBD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F2B68-E5F9-45FF-9507-1072BA780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3654E-2281-46EF-8FD8-9B7D12EBA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55B8-7E18-42CB-BB63-4C4FA0940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A1DA-E3B5-47A1-8879-315C3DE51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7F91-0BA3-40B6-B289-59BBEBC99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4128-9F24-4805-B077-704CE3A46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15E7-8D87-492F-BEC3-6D51E4B7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260C-5F8F-4ADA-B89B-62CD6E10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F259-8D1F-4980-A56E-D881FF85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AE0AF-16D6-4900-A1AA-1AE1E3C1803F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06F82-CC57-49F7-A8C2-5515D660881C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4600" spc="-1" strike="noStrike">
                <a:solidFill>
                  <a:srgbClr val="ffffcc"/>
                </a:solidFill>
                <a:latin typeface="Arial"/>
              </a:rPr>
              <a:t>Go Tell The Good News”</a:t>
            </a:r>
            <a:br>
              <a:rPr sz="4600"/>
            </a:b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Part 1</a:t>
            </a:r>
            <a:br>
              <a:rPr sz="3400"/>
            </a:b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The Church Is Scattered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95280" y="3962160"/>
            <a:ext cx="64771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Quarter 11, Lesson 9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Acts 9:32 - 10:1-48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Pages 50-55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5400" y="2775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Peter Perplexed At The Vision</a:t>
            </a:r>
            <a:br>
              <a:rPr sz="3600"/>
            </a:b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cts 10:17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598760"/>
            <a:ext cx="853452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Peter had preached on Pentecost,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1" i="1" lang="en-US" sz="2800" spc="-1" strike="noStrike">
                <a:solidFill>
                  <a:srgbClr val="eaeaea"/>
                </a:solidFill>
                <a:latin typeface="Verdana"/>
              </a:rPr>
              <a:t>The promise is to you and to your children and to all that are afar off”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Jesus had commanded,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1" i="1" lang="en-US" sz="2800" spc="-1" strike="noStrike">
                <a:solidFill>
                  <a:srgbClr val="eaeaea"/>
                </a:solidFill>
                <a:latin typeface="Verdana"/>
              </a:rPr>
              <a:t>Go ye into all the world and preach the gospel to every creature”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Before Peter’s vision, did he understand who the “afar off” were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400" y="2775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Peter Goes To Caesarea</a:t>
            </a:r>
            <a:br>
              <a:rPr sz="3600"/>
            </a:b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cts 10:17-24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598760"/>
            <a:ext cx="838188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The three men found Pete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Peter invited them to stay overnigh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The next day Peter, six witnesses, and the three men went to Caesare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Cornelius was waiting for them with relatives and friend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5400" y="2775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Peter Meets Cornelius</a:t>
            </a:r>
            <a:br>
              <a:rPr sz="3600"/>
            </a:b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cts 10:25-33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Cornelius fell down at Peter’s feet and worshipped hi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Peter said,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1" i="1" lang="en-US" sz="2800" spc="-1" strike="noStrike">
                <a:solidFill>
                  <a:srgbClr val="eaeaea"/>
                </a:solidFill>
                <a:latin typeface="Verdana"/>
              </a:rPr>
              <a:t>Stand up, I myself am also a man”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Cornelius explained why he had called for Pete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He wanted to hear all things commanded by Go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Peter’s Sermon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cts 10:34-43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686800" cy="51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Peter opened his mouth and said: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1" i="1" lang="en-US" sz="2800" spc="-1" strike="noStrike">
                <a:solidFill>
                  <a:srgbClr val="eaeaea"/>
                </a:solidFill>
                <a:latin typeface="Verdana"/>
              </a:rPr>
              <a:t>In truth I perceive that God shows no partiality”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Peter preached Christ and Him crucified to Cornelius and his famil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In summary,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1" i="1" lang="en-US" sz="2800" spc="-1" strike="noStrike">
                <a:solidFill>
                  <a:srgbClr val="eaeaea"/>
                </a:solidFill>
                <a:latin typeface="Verdana"/>
              </a:rPr>
              <a:t>...everyone that believes on Him shall receive the remission of sins.”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The Holy Spirit Fell Upon Gentiles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cts 10:44-48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51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While Peter was still speaking, the Holy Spirit fell upon all those who heard the wor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The Jewish Christians were astonishe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The Gentiles were able to speak tongues and magnified Go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The First Gentiles Converted</a:t>
            </a:r>
            <a:br>
              <a:rPr sz="3600"/>
            </a:b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cts 10:44-48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1532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Peter answered,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1" i="1" lang="en-US" sz="2800" spc="-1" strike="noStrike">
                <a:solidFill>
                  <a:srgbClr val="eaeaea"/>
                </a:solidFill>
                <a:latin typeface="Verdana"/>
              </a:rPr>
              <a:t>Can anyone forbid water, that these should not be baptized who had received the Holy Spirit just as we have?”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He commanded them to be baptized in the name of the Jesus Chris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280" y="277920"/>
            <a:ext cx="8839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Peter Preaches In Lydda And Sharon</a:t>
            </a:r>
            <a:br>
              <a:rPr sz="3600"/>
            </a:b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cts 9:32-35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5760" y="159984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The church had a time of peac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Peter left Jerusalem on a tour that      took him to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Lydda (the Old Testament city        </a:t>
            </a: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     of Lod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All the plain of Sharo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Jopp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And finally Caesare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Peter healed a paralytic named Aenea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553080" y="4724280"/>
            <a:ext cx="1447920" cy="6098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9.2877E-006 C -0.00937 -0.01248 -0.01562 -0.03353 -0.02934 -0.03885 C -0.03333 -0.0444 -0.03611 -0.05203 -0.04166 -0.05527 C -0.04461 -0.05689 -0.05086 -0.05943 -0.05086 -0.05943 C -0.05243 -0.06082 -0.05416 -0.06197 -0.05538 -0.06359 C -0.05711 -0.06591 -0.05798 -0.06961 -0.06007 -0.07169 C -0.06371 -0.07539 -0.07239 -0.08001 -0.07239 -0.08001 C -0.07986 -0.09296 -0.08333 -0.08811 -0.09236 -0.09643 C -0.13159 -0.09551 -0.17656 -0.09944 -0.21701 -0.09019 C -0.23507 -0.09296 -0.24479 -0.09181 -0.2585 -0.10453 C -0.25954 -0.10661 -0.26024 -0.10892 -0.26163 -0.11077 C -0.26284 -0.11239 -0.26493 -0.11285 -0.26614 -0.1147 C -0.27795 -0.13228 -0.26649 -0.12303 -0.27847 -0.13112 C -0.26614 -0.13783 -0.27361 -0.13529 -0.25538 -0.13529 E">
                                      <p:cBhvr>
                                        <p:cTn id="35" dur="3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538 -0.13529 C -0.26059 -0.1487 -0.2585 -0.15448 -0.26927 -0.16188 C -0.27413 -0.17159 -0.27343 -0.17483 -0.28159 -0.18038 C -0.28993 -0.19634 -0.27829 -0.17599 -0.29079 -0.19056 C -0.2927 -0.19287 -0.29357 -0.19657 -0.29548 -0.19888 C -0.3 -0.20397 -0.3059 -0.20675 -0.31076 -0.21114 C -0.31284 -0.21299 -0.31354 -0.21692 -0.31545 -0.21924 C -0.31684 -0.22109 -0.31857 -0.22201 -0.32014 -0.2234 C -0.35104 -0.20906 -0.38836 -0.21507 -0.42014 -0.21507 E">
                                      <p:cBhvr>
                                        <p:cTn id="39" dur="3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2013 -0.21507 C -0.41493 -0.21646 -0.40954 -0.21669 -0.40468 -0.21923 C -0.40121 -0.22085 -0.39548 -0.22733 -0.39548 -0.22733 C -0.38697 -0.25161 -0.39843 -0.22316 -0.38784 -0.23958 C -0.38246 -0.24814 -0.38124 -0.25785 -0.37395 -0.26433 C -0.36822 -0.27959 -0.36163 -0.29509 -0.35711 -0.31128 C -0.35642 -0.31405 -0.35659 -0.31706 -0.35555 -0.3196 C -0.35381 -0.324 -0.3493 -0.33186 -0.3493 -0.33186 C -0.34687 -0.34273 -0.34288 -0.35175 -0.3401 -0.36262 C -0.33819 -0.36979 -0.33333 -0.37626 -0.3309 -0.3832 C -0.32725 -0.39384 -0.32517 -0.40402 -0.32013 -0.41373 C -0.31666 -0.4276 -0.31423 -0.44217 -0.30624 -0.45281 C -0.29861 -0.47409 -0.29045 -0.49583 -0.28472 -0.51826 C -0.28576 -0.52451 -0.28611 -0.53098 -0.28784 -0.53676 C -0.29097 -0.54694 -0.29635 -0.55573 -0.30017 -0.56544 C -0.30121 -0.56822 -0.30416 -0.56822 -0.30624 -0.5696 C -0.31753 -0.56451 -0.31232 -0.5666 -0.3217 -0.56336 C -0.32934 -0.56475 -0.33715 -0.56521 -0.34479 -0.56752 C -0.34652 -0.56798 -0.3493 -0.57168 -0.3493 -0.57168 E">
                                      <p:cBhvr>
                                        <p:cTn id="43" dur="3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Dorcas Raised From The Dead</a:t>
            </a:r>
            <a:br>
              <a:rPr sz="3600"/>
            </a:b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cts 9:36-43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Dorcas (her Greek name) lived in Jopp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Was rich in good works; did charitable deed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became sick and die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Disciples sent for Peter in Lydd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He raised Dorcas from the dea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Many converted as the report sprea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The First Sermon To Gentiles</a:t>
            </a:r>
            <a:br>
              <a:rPr sz="3600"/>
            </a:b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cts 10:1-48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8400"/>
            <a:ext cx="822960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A man named Cornelius lived in Caesare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A centurion of the Roman cohor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Cornelius was a deeply religious man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He feared God with all his hous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He prayed continuousl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He helped the poo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The Vision of Cornelius</a:t>
            </a:r>
            <a:br>
              <a:rPr sz="3600"/>
            </a:b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cts 10:1-8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9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Cornelius was praying at three o’clock in the afternoo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He saw an open vision (that is, he was awake, not asleep or dreaming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An angel appeared to him; he was frightened, saying,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1" i="1" lang="en-US" sz="2800" spc="-1" strike="noStrike">
                <a:solidFill>
                  <a:srgbClr val="eaeaea"/>
                </a:solidFill>
                <a:latin typeface="Verdana"/>
              </a:rPr>
              <a:t>What is it, Lord?”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The Vision of Cornelius </a:t>
            </a:r>
            <a:br>
              <a:rPr sz="3600"/>
            </a:b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cts 10:1-8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598760"/>
            <a:ext cx="8381880" cy="49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The angel said,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1" i="1" lang="en-US" sz="2800" spc="-1" strike="noStrike">
                <a:solidFill>
                  <a:srgbClr val="eaeaea"/>
                </a:solidFill>
                <a:latin typeface="Verdana"/>
              </a:rPr>
              <a:t>Your prayers and your good deeds are observed by God”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The angel told him to send men to Joppa to bring back Simon who was surnamed Pete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Cornelius sent three men to Jopp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They arrived in Joppa the next da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5400" y="2775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Peter’s Vision</a:t>
            </a:r>
            <a:br>
              <a:rPr sz="3600"/>
            </a:b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cts 10:9-16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153280" cy="51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Peter was staying with Simon the tanne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He was on the housetop praying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While praying, he had a vision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The heaven (sky) opene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A great sheet was lowered by the four corners upon the earth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In the sheet were all kinds of four-footed animals, reptiles and bird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400" y="2775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Peter’s Vision</a:t>
            </a:r>
            <a:br>
              <a:rPr sz="3600"/>
            </a:b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cts 10:9-16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8400"/>
            <a:ext cx="822960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A voice commanded,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1" i="1" lang="en-US" sz="2800" spc="-1" strike="noStrike">
                <a:solidFill>
                  <a:srgbClr val="eaeaea"/>
                </a:solidFill>
                <a:latin typeface="Verdana"/>
              </a:rPr>
              <a:t>Get up, Peter: kill one of these animals and eat it”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Peter’s reply,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1" i="1" lang="en-US" sz="2800" spc="-1" strike="noStrike">
                <a:solidFill>
                  <a:srgbClr val="eaeaea"/>
                </a:solidFill>
                <a:latin typeface="Verdana"/>
              </a:rPr>
              <a:t>No way, Lord, for I have never eaten anything common or unclean”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The voice replied,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1" i="1" lang="en-US" sz="2800" spc="-1" strike="noStrike">
                <a:solidFill>
                  <a:srgbClr val="eaeaea"/>
                </a:solidFill>
                <a:latin typeface="Verdana"/>
              </a:rPr>
              <a:t>What God has cleansed, do not call common or unclean”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This happened three tim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6T00:29:31Z</dcterms:created>
  <dc:creator>robert marshall</dc:creator>
  <dc:description/>
  <dc:language>en-US</dc:language>
  <cp:lastModifiedBy>Frank D Vines</cp:lastModifiedBy>
  <dcterms:modified xsi:type="dcterms:W3CDTF">2007-02-04T01:48:31Z</dcterms:modified>
  <cp:revision>18</cp:revision>
  <dc:subject/>
  <dc:title>“Go Tell The Good News” Part 1  The Church Is Scattered</dc:title>
</cp:coreProperties>
</file>